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5DE-D653-4DB2-9E05-51BBCAB2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327-4E91-481C-B50D-2D05DD92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79E-79DC-43BC-846F-FDFAF9EF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26A-9DF7-4AF2-B9F4-B9DFFDEA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F697-0EB6-4EC4-8B09-564A643C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7009-30B7-428B-B17D-7EFE9651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40F2-0CEE-4D07-95FD-7E1EA046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5921-CD3A-4FB5-8BCC-11E8E1B6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AE76-76FB-441B-BB97-05FD9640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9C2D-3A8D-4B0D-9075-B17B4013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EE02-7A24-480C-BB8C-5AE72CF1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C8F-6724-4AF4-B0BE-B34983F7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3F6A-308A-47BC-8BB9-8040301E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0CA6-A870-4CB7-A20A-A9CD8C6A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D5AF-1BAE-4F9C-AA29-FF174890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5DD2-F5A5-42D8-B8E2-7102F0CD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97A7-05D1-4F1E-8C97-E879F39F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394-66F4-4CC0-8F3C-6AD1623B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2AB-23F6-49ED-9FF5-9EA05E83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8DB-701A-4BB4-A4CD-98BC7837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397-6FD8-4A6E-8F99-52394FC6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A64-9F68-40CF-92EA-0A8A239E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A21-0A84-4FE5-A720-8FFB5242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D33-C392-466E-84F1-2E18761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05A6-E206-4F2B-BE8A-BE4887B208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BB04-4F6A-48D8-A7C0-F62C8375FC1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ROWER – układy konstrukcyjne roweru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5640" y="403920"/>
            <a:ext cx="76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amulce szczękowe i dźwigniowe dociskane są ręcznie, dźwignią umieszczoną na kierowni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5541840" cy="3311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24000" y="2492280"/>
            <a:ext cx="2952720" cy="34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Układ oświetleniow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258920" y="90756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zyli... widzieć i być widzianym..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341360"/>
            <a:ext cx="3960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Zgodnie z Kodeksem drogowym rower musi być wyposażon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z przodu w jedno światło samodzielnie świecące barwy białej (lub żółtej selektywnej) oraz z tyłu w jedno światło czerwone samodzielnie świecące i jedno światło czerwone odblaskow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 kształcie innym niż trójką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ajczęściej stosowanym rozwiązaniem jest zastosowanie prądnicy rowerowej zasilającej lampę przednią i tylną za pośrednictwem przewodów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Światło odblaskowe nie wymaga stosowania żadnej instalacji elektrycznej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384360" cy="237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432108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787640" y="5444640"/>
            <a:ext cx="4103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Autor: Janusz Zators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Rower to pojazd jednośladowy lub dwuśladowy napędzany siłą mięśni osoby jadącej tym pojazdem.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10920" y="2997000"/>
            <a:ext cx="7993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Rower jest urządzeniem mechanicznym, skonstruowanym przez człowieka, zatem mówienie o konstrukcji tego pojazdu nie powinno wydawać Ci się niczym dziwnym i niezwykłym. Ten pros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z pozoru pojazd kryje w sobie wiele ciekawych rozwiązań konstrukcyjnych, które z pewnością warte są Twojego zainteresowan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2637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Konstrukcj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owe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8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8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65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121120" y="433440"/>
            <a:ext cx="4921200" cy="5470560"/>
            <a:chOff x="2121120" y="433440"/>
            <a:chExt cx="4921200" cy="5470560"/>
          </a:xfrm>
        </p:grpSpPr>
        <p:sp>
          <p:nvSpPr>
            <p:cNvPr id="120" name="_s89184"/>
            <p:cNvSpPr/>
            <p:nvPr/>
          </p:nvSpPr>
          <p:spPr>
            <a:xfrm flipH="1" flipV="1">
              <a:off x="3395520" y="2486160"/>
              <a:ext cx="593640" cy="34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89183"/>
            <p:cNvSpPr/>
            <p:nvPr/>
          </p:nvSpPr>
          <p:spPr>
            <a:xfrm>
              <a:off x="2121120" y="1459080"/>
              <a:ext cx="1368360" cy="1368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Ra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89182"/>
            <p:cNvSpPr/>
            <p:nvPr/>
          </p:nvSpPr>
          <p:spPr>
            <a:xfrm flipH="1">
              <a:off x="3396960" y="3511800"/>
              <a:ext cx="592200" cy="34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89181"/>
            <p:cNvSpPr/>
            <p:nvPr/>
          </p:nvSpPr>
          <p:spPr>
            <a:xfrm>
              <a:off x="2121120" y="3510000"/>
              <a:ext cx="1368360" cy="1368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Układ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hamulcow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89180"/>
            <p:cNvSpPr/>
            <p:nvPr/>
          </p:nvSpPr>
          <p:spPr>
            <a:xfrm>
              <a:off x="4581720" y="3853080"/>
              <a:ext cx="1440" cy="684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89179"/>
            <p:cNvSpPr/>
            <p:nvPr/>
          </p:nvSpPr>
          <p:spPr>
            <a:xfrm>
              <a:off x="3897360" y="4535640"/>
              <a:ext cx="1368360" cy="1368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odełk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89178"/>
            <p:cNvSpPr/>
            <p:nvPr/>
          </p:nvSpPr>
          <p:spPr>
            <a:xfrm>
              <a:off x="5173560" y="3511800"/>
              <a:ext cx="594000" cy="34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89177"/>
            <p:cNvSpPr/>
            <p:nvPr/>
          </p:nvSpPr>
          <p:spPr>
            <a:xfrm>
              <a:off x="5673600" y="3510000"/>
              <a:ext cx="1368720" cy="1368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Koł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jezd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89176"/>
            <p:cNvSpPr/>
            <p:nvPr/>
          </p:nvSpPr>
          <p:spPr>
            <a:xfrm flipV="1">
              <a:off x="5173560" y="2484000"/>
              <a:ext cx="592200" cy="343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89175"/>
            <p:cNvSpPr/>
            <p:nvPr/>
          </p:nvSpPr>
          <p:spPr>
            <a:xfrm>
              <a:off x="5673600" y="1459080"/>
              <a:ext cx="1368720" cy="1368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Układ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kierownicz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89174"/>
            <p:cNvSpPr/>
            <p:nvPr/>
          </p:nvSpPr>
          <p:spPr>
            <a:xfrm flipV="1">
              <a:off x="4581720" y="1801440"/>
              <a:ext cx="0" cy="68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89173"/>
            <p:cNvSpPr/>
            <p:nvPr/>
          </p:nvSpPr>
          <p:spPr>
            <a:xfrm>
              <a:off x="3897360" y="433440"/>
              <a:ext cx="1368360" cy="1368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Układ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oświetleniow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89172"/>
            <p:cNvSpPr/>
            <p:nvPr/>
          </p:nvSpPr>
          <p:spPr>
            <a:xfrm>
              <a:off x="3897360" y="2486160"/>
              <a:ext cx="1368360" cy="1368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92d0b"/>
                  </a:solidFill>
                  <a:latin typeface="Garamond"/>
                </a:rPr>
                <a:t>Układ jezd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2714760" cy="1666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1197000"/>
            <a:ext cx="49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ma umożliwia zmontowanie wszystkich zespołów w całość. Przednia część ramy składa się z prostych odcinków rur cienkościennych, natomiast podwójny widelec tylny wykonany jest z rury spłaszczone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321300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 zależności od przeznaczenia rowery mają ramy o różnym kształcie i budowie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7848720" cy="2081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ama - kręgosłup roweru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6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3280" y="2058840"/>
            <a:ext cx="3384720" cy="3098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Układ kierowniczy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981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Umożliwia on kierowanie rowerem - a więc utrzymanie stałego kierunku jazdy lub jego zmianę zgodnie z zamiarem kierująceg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05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Układ kierowniczy składa się z widelca przedniego osadzonego w rurze sterowej ramy za pośrednictwem dwóch łożysk kulkowych, drążka kierowniczego i kierowni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44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Kierownica jest także miejscem mocowania wszystkich elementów służących do bezpiecznej jazdy rowerem (dźwignie hamulców, manetki przerzutek, dzwonek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ła jezdn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84720" y="1125360"/>
            <a:ext cx="2735280" cy="2808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4360" y="155736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oło roweru składa się z obręczy i piasty, połączonych silnie napiętymi szprycham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4392360" cy="158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4000" y="47242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ysunek przedstawia piastę koła przedniego. Piasta koła tylnego zbudowana jest mocniej, gdyż podlega większym obciążeniom. Ponadto zaopatrzona jest w napędzane koło przekładni łańcuchowej, a czasami także w hamule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55640" y="549360"/>
            <a:ext cx="78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oła roweru wyposażone są również w ogumienie pneumatyczne, zapewniające dobrą przyczepność kół do nawierzchni jezdni. Napełnianie powietrzem dętki odbywa się przez zawór zwrotny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554508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iodełko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1871640" cy="2449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132000" y="1413000"/>
            <a:ext cx="54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zesuwanie siodełka w kierunku pionowym (podnoszenie - opuszczanie) może być przeprowadzone po zwolnieniu zacisku znajdującego się pod n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4149720"/>
            <a:ext cx="41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ysokość siodełka jest prawidłowa wówczas, gdy noga oparta na pedale w najniższym jego położeniu jest lekko ugięta w kolan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Układ hamulcowy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58920" y="90792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zwala on zmniejszyć prędkość jazdy oraz zatrzymać row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2060640"/>
            <a:ext cx="496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amowanie odbywa się poprzez przekładnię łańcuchową i wolnobieżną piastę tylną. Spełnia ona podwójne zadanie: przenosi ruch układu napędowego na koło tylne i jednocześnie jest hamulc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2879640" cy="250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284720" y="4076640"/>
            <a:ext cx="4390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lementem hamującym jest w niej dzielona tuleja umieszczona wewnątrz piasty, która w trakcie wstecznego ruchu łańcucha jest rozpierana na zewnątrz, powodując powstanie tarcia pomiędzy nią i wewnętrzną powierzchnią pias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316872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1:04:03Z</dcterms:created>
  <dc:creator>Pracownia_106</dc:creator>
  <dc:description/>
  <dc:language>en-US</dc:language>
  <cp:lastModifiedBy>Pracownia_106</cp:lastModifiedBy>
  <dcterms:modified xsi:type="dcterms:W3CDTF">2002-08-23T09:51:47Z</dcterms:modified>
  <cp:revision>8</cp:revision>
  <dc:subject/>
  <dc:title>ROWER – układy konstrukcyje roweru</dc:title>
</cp:coreProperties>
</file>